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FDFD-0BB8-4776-9F3B-085B72B1E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0EB-7E2D-4906-B670-69FA86AE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2B45-BABE-4A67-B3B6-A7F1CAD33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0EB2-7C05-4ABD-B7A0-7D81AD071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05E37-2A3A-4534-A454-E0BD5BF53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1282D-DE9E-4FFF-9540-9B6657D8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7C9E-AE21-4D8E-905D-CA8377CB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34CAE-89E2-44AE-8A92-AE4B17E5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1CC3-66D1-4BFE-BD59-70D2C63F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499F-B90D-48DB-9C84-BC626EB74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3708-D0E8-42D6-9B94-B6F23747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17F0-7518-47A9-A2B5-656BCAC9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2812A-2F3B-4806-8640-4054A787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10858-6031-4EF2-9615-B60510D5E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FEE69-F4DD-405D-A658-16F3F0460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6128-224E-4DC6-A8CF-C69DD7909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D91B-9860-4B8B-99A4-3AB09FD32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83A5-8456-43B7-855F-DE88C1367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B293-7378-4F41-997F-EBAA9D55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9056-BD44-4981-82CF-B259FBFF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39B4-4A07-4AD7-8FCC-2140080E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A4EA-61A2-4F6A-AD54-BC7DAFFCA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FAF6-FD0E-423F-B64D-CF4813F0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86C2-5815-4A08-AC89-7D1E03C1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F742C-BF1A-419E-9B3D-5964E76280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3C56-73BC-434F-9531-BDF7E1D701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604692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7391520" cy="430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74167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зеленение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Это может сделать каждый! Сделаем наш город чистым, красивым и уютным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719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Только 8 предприятий города готовы соблюдать требования экологического законодательст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Из 68 предприятий города только 8 заключили договора на функционирование санитарно-защитной зоны (СЗЗ)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475164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 городе три главных источника выброса ядовитых веществ в атмосферу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бросы КЦБК "Кама"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хлопные газы транспорта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Полигон бытовых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" descr="КЦБК.jpg, 21179 bytes"/>
          <p:cNvPicPr/>
          <p:nvPr/>
        </p:nvPicPr>
        <p:blipFill>
          <a:blip r:embed="rId1"/>
          <a:stretch/>
        </p:blipFill>
        <p:spPr>
          <a:xfrm>
            <a:off x="6156360" y="1628640"/>
            <a:ext cx="27684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777680"/>
            <a:ext cx="7491600" cy="44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течение нескольких лет более 400 краснокамских детей были обследованы сотрудниками института экология и выявили рост содержащихся в их организме: свинца, хрома, фенола и бензол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2000 году фенол влияющий на систему крови, печени и почек, обнаруживался у 25 % обследованных детей, то в 2003 году - уже у 87 %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При попадании в организм: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сернистого ангидрид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развиваются такие заболевания, как бронхиальная астма, нефрит, хронический отит, ДЦП, сахарный диабет, аномалии системы кровообращения;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фенол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бронхиальная астма, стенокардия, сахарный диабет, гипертони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Город занимает 18 место по уровню смертности в области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смертности от новообразований. Краснокамск занимает седьмое место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53 % - болезни системы кровообращения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4 % - органы пищеварения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6 % - органы дых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общей заболеваемости на 21 месте, а детей на 7 мест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едприятия город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52400" y="1279080"/>
            <a:ext cx="7491240" cy="43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КЦБК «Кама"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ТЭЦ-5",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Свинокомплекс" - 71 % вредных выбросов в воздух и 83 % всех загрязнений окружающей среды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100 тысяч тонн так называемых нефтеочистк находится на небольшой глубине под слоем грунта в водоохраной зоне в районе деревни Шило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488360" cy="15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ля изменения экологическо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езопаснос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необходимо решить следующие основные задач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7640" y="2133360"/>
            <a:ext cx="7345440" cy="42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реализовать комплексные меры по улучшению экологической ситуаци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роводить медико-экологическую реабилитацию населе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способствовать снижению техногенной нагрузки на окружающую среду от выбросов и сбросов загрязняющих веществ и размещения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28:39Z</dcterms:created>
  <dc:creator>01</dc:creator>
  <dc:description/>
  <dc:language>en-US</dc:language>
  <cp:lastModifiedBy>admin</cp:lastModifiedBy>
  <dcterms:modified xsi:type="dcterms:W3CDTF">2007-01-24T02:26:54Z</dcterms:modified>
  <cp:revision>6</cp:revision>
  <dc:subject/>
  <dc:title>Экология Краснокамска</dc:title>
</cp:coreProperties>
</file>